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E0F5-A805-4B7C-868A-780EA706B9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080C-97D9-422B-AAAF-BBE0BC796E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864-A676-46A6-96A7-3D0DD08D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CC5-E8B5-44E1-BB28-68FA3F48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D091-FAAF-4F61-AC1D-97EC7E46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E73-60D9-4CCB-9ED2-FC6317A0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F83-7C8C-4D99-86CD-71C6EC76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0CB-A280-49A2-8570-BA8D8FB8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718-6FEB-41D2-A464-26B9196A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1E6-12D4-412B-8D25-BE7D6A26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AC83-3AE3-4915-98D7-32204A37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CF33-7741-4EC1-812F-7D47B4F5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204-A548-42DE-BFF4-2516017A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0006-E5D7-4EB9-BD92-D5C28475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2773-2707-4ACE-BED6-AF3980F685F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EL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14200" y="1349280"/>
            <a:ext cx="864396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τερ, δοξασον σου το ὀνομ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ω ἐβαπτισα ὑμας ὑδατι, αὐτος δε βαπτισει ὑμας ἐν πνευματι   ἁγι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εἰπεν αὐτῃ∙ Θυγατηρ, ἡ πιστις σου ἐσωσε σε∙ ὑπαγε εἰς    εἰρην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αὐτῳ ζωη ἠν, και ἡ ζωη ἠν υο φως των ἀνθρωπ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 λογος σαρξ ἐγενετ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γυνη εἰπεν αὐτῳ∙ Οὐκ ἐχω ἀνδρα. λεγει αὐτῃ ὁ Ἰησους, Καλως εἰπας ὁτι Ἀνδρα οὐκ ἐχ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14200" y="1349280"/>
            <a:ext cx="8643960" cy="47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αὐτοις ὁ Ἰησους∙ Εἰπον ὑμιν και οὐ πιστευετε∙ τα ἐργα ἁ ἐγω ποιω ἐν τῳ ὀνοματι του πατρος μου ταυτα μαρτυρει περι ἐ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αὐτῳ Σιμων Πετρος∙ Κυριε, τίνι ἀκολουθησο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ῥηματα ζωης αἰωνιου ἐχ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harisees said to him, ‘Why do your disciples not eat appropriately with their hands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t in the Lord neither is a wife separate from a husband nor a husband separate from a w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ace to you (pl.) and peace from God our father and the Lord Jesus Christ our savi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ust as he spoke through the mouth of his holy prophets, he will do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98280" y="1157400"/>
            <a:ext cx="90727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Σιμων εἰπεν∙ Κυριε, δι’ ὁλης νυκτος ἠργαζομεθα και οὐκ ἐλαβομεν∙ ἐπι δε τῳ ῥηματι σου ἐργασομεθα παλ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ἰδου ἠλθεν ἀνηρ ᾡ ὀνομα Ἰαιρος και οὑτος ἀρχων της συναγωγης ὑπηρχεν, και πεσων παρα τους ποδας Ἰησου παρεκαλει αὐτον εἰσελθειν εἰς τον οἰκον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τι ἀνηρ ἐστιν κεφαλη της γυναικος ὡς και ὁ Χριστος κεφαλη της ἐκκλησιας, αὐτος σωτηρ του σωμα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υλος ἀποστολος Χριστου Ἰησου κατ’ ἐξουσιαν θεου σωτηρος ἡμων και Χριστου Ἰησου της ἐλπιδος ἡ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α τεκνα του θεου εἰσιν οὑτοι οἳ οὐκ ἐξ αἱματων οὐδε ἐκ θεληματος σαρκος οὐδ’ ἐκ θεληματος ἀνδρος ἀλλ’ ἐκ θεου γιν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 δαιμονιον αὐτον ἐβαλλεν εἰς πυρ και εἰς ὑδα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42920" y="1000080"/>
            <a:ext cx="86439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ἀρχοντες εἰσηλθον λεγοντες∙ Που ἐστιν ὁ ἀρχων των Ἰουδαι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δομεν γαρ αὐτου τον ἀστερα και ἠλθομεν προσκυνησαι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νω ὁ Ἰησους ὁτι ἠκουσαν οἱ Φαρισαιοι ὁτι Ἰησους πλειονας μαθητας ποιει και βαπτιζει ἠ Ἰωανν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in love we will receive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χομ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the hope of righteousness by the Spir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w hope and love remain, and we wish to have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ife does not have authority over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her own body, but likewise the husband also does not have authority over his own body but the wife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o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at hour the disciples came to Jesus, saying, ‘Who therefore is greater in the kingdom of heaven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714240" y="1643040"/>
            <a:ext cx="77155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rk 3.32-35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ἐκάθητο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as sitt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ὶ αὐτὸν ὄχλος, καὶ λέγουσιν αὐτῷ, Ἰδοὺ ἡ μήτηρ σου καὶ οἱ ἀδελφοί σου καὶ αἱ ἀδελφαί σου ἔξω ζητοῦσίν σε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3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ἀποκριθεὶ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nswer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ῖς λέγει, Τίς ἐστιν ἡ μήτηρ μου καὶ οἱ ἀδελφοί μ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4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περιβλεψάμεν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ὺς περὶ αὐτὸν κύκλ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n a circ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θημένου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people sitting (acc.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έγει, Ἴδε ἡ μήτηρ μου καὶ οἱ ἀδελφοί μου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5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ὃς ἃ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hoeve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ιήσῃ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ranslate as i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ιει] τὸ θέλημα τοῦ θεοῦ, οὗτος ἀδελφός μου καὶ ἀδελφὴ καὶ μήτηρ ἐστ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46:34Z</dcterms:created>
  <dc:creator>Sarah</dc:creator>
  <dc:description/>
  <dc:language>en-US</dc:language>
  <cp:lastModifiedBy>Sarah</cp:lastModifiedBy>
  <dcterms:modified xsi:type="dcterms:W3CDTF">2009-03-02T17:36:22Z</dcterms:modified>
  <cp:revision>20</cp:revision>
  <dc:subject/>
  <dc:title>Slide 1</dc:title>
</cp:coreProperties>
</file>